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EDA-DC05-4B6B-BB60-81AA998C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10A-ECC7-408E-94CF-172EBF7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BDB-0446-4EDF-8AEF-683C2C6C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CBA-9204-4457-9A10-DC6020D4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7C5B-43E7-48EB-91AD-D0248DAA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A540-3152-457C-9034-EEB7B500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14E5-6535-4ED6-81AC-AFCCDF22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4CB2-12E2-4814-B418-999F32C7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5B2C-46FA-44A8-80D4-B5C0E6F5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8F1B-56E6-4951-8C7F-AA0FB4C1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E821-0026-4D5D-AA63-B62A1AE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6E0-E1BB-4339-87EA-B0E279EC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B78B-C725-4324-940F-8191E8C2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8F79-1DC8-4385-B365-65F3FEB6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5F11-6417-45F9-AB7F-9F87AA22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62CC-D2D0-4DC0-81E6-CA642527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FC9B-7ABF-4B6E-AC7D-7F75FF73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C88-2519-4EA4-A424-1BDD3E94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573-A87C-432C-BD7A-520CDB7D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B3C-51AD-48A9-A88A-4F887B9E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326-BAF2-4EA8-83FD-8B3E0E82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1B5-7179-4DFC-BC98-4DEF59B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45C-A971-48DC-8C7C-44A90BFD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A16-0F3B-4A50-97C9-13DC7D9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88C0-C5E7-4175-8B6F-BCAA2C51116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B410-A21D-4811-888B-9A1F3A705D8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Герои земли тюменско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832360" y="64911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иколай Павлович Батур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Николай Павлович Батурин"/>
          <p:cNvPicPr/>
          <p:nvPr/>
        </p:nvPicPr>
        <p:blipFill>
          <a:blip r:embed="rId1"/>
          <a:stretch/>
        </p:blipFill>
        <p:spPr>
          <a:xfrm>
            <a:off x="324000" y="2205000"/>
            <a:ext cx="2549520" cy="29559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03280" y="620280"/>
            <a:ext cx="54831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лай Павлович  Батурин  родился  в  1909году в селе Лабино Юргинского района Тюменской области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 родине   жил недолго. Переехал на юг в г. Ессентуки Ставропольского края. Оттуда в1941 году ушел в Красную Армию.   На   танке    прошел всю войну. За     умелое    руководство взводом,  мужество, проявленное    в    боях    на   реке Прут, Н. П. Батурину Указом   Президиума   Верховного    Совета    СССР   от 24 марта 1945 года присвоено   звание  Героя Советского Союз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авная аллея парка Победы, аллея Слав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мни свято бойцов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 возвратившихся с войны!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ЕЗНОСКОВ Иван Захарови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eznos"/>
          <p:cNvPicPr/>
          <p:nvPr/>
        </p:nvPicPr>
        <p:blipFill>
          <a:blip r:embed="rId1"/>
          <a:stretch/>
        </p:blipFill>
        <p:spPr>
          <a:xfrm>
            <a:off x="324000" y="1197000"/>
            <a:ext cx="3274920" cy="4827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80000" y="1125000"/>
            <a:ext cx="504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дился 20 января 1918 гола. С 1936 гола работал судоводителем в г. Ханты-Мансийс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зван в армию в 1938 г., на фронте с июля 1941 г. В боях получил шесть ранений. 25 января 1945 года при форсировании Одера был смертельно ранен, умер 28 февраля 1945 г. в госпитале от ра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вание Героя Советского Союза присвоено 10 апреля 1945 г. (посмертно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гражден орденом Александра Невского, двумя орденами Красной Звезды, медал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УЗИН Александр Сергее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buzin"/>
          <p:cNvPicPr/>
          <p:nvPr/>
        </p:nvPicPr>
        <p:blipFill>
          <a:blip r:embed="rId1"/>
          <a:stretch/>
        </p:blipFill>
        <p:spPr>
          <a:xfrm>
            <a:off x="539640" y="1484280"/>
            <a:ext cx="3479760" cy="5114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4360" y="155700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ся в 1976 году в Нижнем Тагиле. Призван в армию в 1994 году Советским районным военным комиссариатом Тюменской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одвиг, совершенный при разведке маршрута движения для десантно-штурмо-вой группы при выполнении спецзадания в Чеченской Республике, 18 ноября 1996 года награжден медалью "Золотая Звезда" Героя Российской Федерации посмерт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РОЛЬКОВ Иван Васильевич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7" descr="korolkov"/>
          <p:cNvPicPr/>
          <p:nvPr/>
        </p:nvPicPr>
        <p:blipFill>
          <a:blip r:embed="rId1"/>
          <a:stretch/>
        </p:blipFill>
        <p:spPr>
          <a:xfrm>
            <a:off x="250920" y="1557360"/>
            <a:ext cx="3255840" cy="4827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50920" y="1557000"/>
            <a:ext cx="504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женец с. Тундрино Сургутского района, в 1942 году ушел добровольцем на фронт. Отличился при форсировании Днеп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р 1  января 1984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вание Героя Советского Союза присвоено 15 января 1944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РИН Николай Иванови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sirin"/>
          <p:cNvPicPr/>
          <p:nvPr/>
        </p:nvPicPr>
        <p:blipFill>
          <a:blip r:embed="rId1"/>
          <a:stretch/>
        </p:blipFill>
        <p:spPr>
          <a:xfrm>
            <a:off x="324000" y="1413000"/>
            <a:ext cx="3335040" cy="4970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67280" y="1628280"/>
            <a:ext cx="4619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ся в д. Бердюгина Тюменской области, ушел добровольцем на фронт в 1941  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ание Героя Советского Союза присвоено за подвиг, совершенный при овладении опорным железнодорожным узлом станции Красновка Ростовской области, 31  марта 1943 года (посмертн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БЯНИН Гавриил Епифан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sobyanin"/>
          <p:cNvPicPr/>
          <p:nvPr/>
        </p:nvPicPr>
        <p:blipFill>
          <a:blip r:embed="rId1"/>
          <a:stretch/>
        </p:blipFill>
        <p:spPr>
          <a:xfrm>
            <a:off x="684360" y="1773360"/>
            <a:ext cx="3238200" cy="4827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11640" y="1773360"/>
            <a:ext cx="4681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ся в 1896 году. В августе 1941 г. добровольно ушел в арм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фронте был неуловимым снайпером, уничтожил 60 вражеских солдат и офице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гиб при выполнении боевого задания 23 декабря 1944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ание Героя Советского Союза присвоено 29 июля 1945 года (посмертно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БИЧЕВ Петр Алексееви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7" descr="babichev"/>
          <p:cNvPicPr/>
          <p:nvPr/>
        </p:nvPicPr>
        <p:blipFill>
          <a:blip r:embed="rId1"/>
          <a:stretch/>
        </p:blipFill>
        <p:spPr>
          <a:xfrm>
            <a:off x="468360" y="1484280"/>
            <a:ext cx="3322440" cy="4898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40360" y="1557360"/>
            <a:ext cx="475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ся в 1922 голу в д. Борки Ханты-Мансийского района. Солдатский путь начал в июле 1941 г. Отличился при форсировании реки Дунай в районе Ауна-Па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ание Героя Советского Союза было присвоено 24 марта 1945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ослевоенное время проживал в Тобольске, Тю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р в 1993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НЖАКОВ Алексей Филипп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unzhakov"/>
          <p:cNvPicPr/>
          <p:nvPr/>
        </p:nvPicPr>
        <p:blipFill>
          <a:blip r:embed="rId1"/>
          <a:stretch/>
        </p:blipFill>
        <p:spPr>
          <a:xfrm>
            <a:off x="468360" y="1628640"/>
            <a:ext cx="3340080" cy="4899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40360" y="1699920"/>
            <a:ext cx="475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ся в Тобольском районе Тюменской области в 1923 году. Призван в армию в 1943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евал в 1620-м легком артиллерийском полку. Отличился в боях за освобождение Советской Прибал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ание Героя Советского Союза присвоено 24 марта 1945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р 15 апреля 1994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НОВ Петр Яковлеви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7" descr="panov"/>
          <p:cNvPicPr/>
          <p:nvPr/>
        </p:nvPicPr>
        <p:blipFill>
          <a:blip r:embed="rId1"/>
          <a:stretch/>
        </p:blipFill>
        <p:spPr>
          <a:xfrm>
            <a:off x="324000" y="1052640"/>
            <a:ext cx="3498840" cy="5187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140000" y="1125360"/>
            <a:ext cx="4824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ился 6 сентября 1912 года в с. Пелым Гаринского района Свердловской области. Детство и юность прошли в Кондинском район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зван в армию в 1942 г., окончил курсы младших командиров, зачислен в 729-й отдельный истребительский противотанковый дивизион, который был направлен на Курскую дугу. В яростной схватке расчет Панова подоил 11 танков, в т.ч. 5 "тигров". Звание Героя Советского Союза было присвоено 7 августа 1943 года. После окончания войны вернулся в Тюмень. Умер 16 апреля 2002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0лет назад отгремела самая страшная и разрушительная война в истории человечества   - Великая Отечественная. Но мы помним о ней. Сколько бы лет ни исполнилось Великой Победе  - десять, двадцать, шестьдесят, сто, - каждый раз мы будем заново осмысливать события героического прошлого, снова будем переживать огромный душевный подъем, вызванный бессмертным подвигом наших солдат, партизан, тружеников тыла, одержавших историческую победу в жестокой битве с фашизм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УРТОВ Фёдор Петрови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purtov"/>
          <p:cNvPicPr/>
          <p:nvPr/>
        </p:nvPicPr>
        <p:blipFill>
          <a:blip r:embed="rId1"/>
          <a:stretch/>
        </p:blipFill>
        <p:spPr>
          <a:xfrm>
            <a:off x="250920" y="1413000"/>
            <a:ext cx="3413160" cy="5114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0920" y="1125360"/>
            <a:ext cx="5041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ся 14 марта 1920 года в с. Бахчун Ярковского района Тюменской области. Юность его прошла в г. Ханты-Мансийске. В 1938 г. окончил среднюю школу № 1, затем поступил в артиллерийское училище. С первых месяцев войны на фронте. Боевое крещение получил под Москвой, участвовал в Курской битве, форсировал Днепр, участник штурма Берл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ание Героя Советского Союза присвоено 21  февраля 1945  года. В настоящее время проживает в г. Харько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РХАНГЕЛЬСКИЙ Николай Васильевич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7" descr="arch"/>
          <p:cNvPicPr/>
          <p:nvPr/>
        </p:nvPicPr>
        <p:blipFill>
          <a:blip r:embed="rId1"/>
          <a:stretch/>
        </p:blipFill>
        <p:spPr>
          <a:xfrm>
            <a:off x="468360" y="1628640"/>
            <a:ext cx="3186000" cy="48276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95280" y="1699920"/>
            <a:ext cx="49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колай Архангельский родился в селе Асеево Шадринского района Курганской обла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совершил более 200 боевых выле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ание Героя Советского Союза Николаю Архангельскому присвоено 26 октября 1944 года за отличное выполнение боевого задания и проявленные при этом мужество и героиз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92360" y="1052640"/>
            <a:ext cx="6480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клонах обагренной Волг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берегах Москвы – ре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оих дубленых полушу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яли вы, Сибиря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сть не забыт ваш будет подвиг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не забыты стали 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незнакомого посел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безымянной высо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4000" y="188640"/>
            <a:ext cx="8820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2 июня 1941 года был издан Указ “О мобилизации военнообязанных”. Мобилизации подлежали военнообязанные, родившиеся с 1905 по 1918 годы включительно. Десятки тысяч жителей Тюменской области были призваны в ряды Красной армии. Так, только из тюменцев было сформировано три дивизии, несколько стрелковых и артиллерийских бригад. Они приняли первые бои под Москвой, участвовали в Параде 7 ноября 1941 года, защищали Сталинград и Ленинград, освобождали Польшу, штурмовали Берлин. Велика доля тюменцев в страшной арифметике военных потерь. Свыше 50 тысяч наших земляков отдали свою жизнь при защите Родины, каждый десятый из них пал в Сталинградской битве. До 10 тысяч уроженцев Тюменской области, в том числе и Ямала, попали в фашистский плен. Более 70 тысяч наших земляков отмечены боевыми медалями и орденами за свой ратный подвиг, 90 из них – Герои Советского Сою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наровская Валерия Осипов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8. 10. 1923 - 23. 9. 1943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рой Советского Сою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ГнаровскаяВалерия Осиповна"/>
          <p:cNvPicPr/>
          <p:nvPr/>
        </p:nvPicPr>
        <p:blipFill>
          <a:blip r:embed="rId1"/>
          <a:stretch/>
        </p:blipFill>
        <p:spPr>
          <a:xfrm>
            <a:off x="0" y="119700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635280" y="1125360"/>
            <a:ext cx="5508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овская Валерия Осиповна - санинструктор 907-го стрелкового полка 244-й стрелковой дивизии 12-й армии Юго-Западного фронта, рядово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илась 18 октября 1923 года в деревне Модолицы Плюсского района Псковской области в семье служащего. Русская. Окончила Подпорожскую среднюю школу имени А.С. Пушкин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начала Великой Отечественной войны, в сентябре 1941 года эвакуировалась в город Ишим Тюменской области. Работала телефонисткой в Истошинском отделении связи Бердюжского района Тюменской области и в Бердюжской конторе связ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Spasaet-ranennogo-voinato-chto-nado"/>
          <p:cNvPicPr/>
          <p:nvPr/>
        </p:nvPicPr>
        <p:blipFill>
          <a:blip r:embed="rId1"/>
          <a:stretch/>
        </p:blipFill>
        <p:spPr>
          <a:xfrm>
            <a:off x="0" y="1197000"/>
            <a:ext cx="3851280" cy="3805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64000" y="26028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Красной Армии с 1942 года. Окончила курсы санинструкторов. В действующей армии с июля 1942 года.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анинструктор 907-го стрелкового полка (244-я стрелковая дивизия, 12-я армия, Юго-Западный фронт) комсомолка красноармеец Валерия Гнаровская спасла жизнь многим бойцам и офицерам. Только в бою у села Голая Долина Славянского района Донецкой области Украины она вынесла с поля боя 47 раненых. Защищая раненых, уничтожила свыше 20-и солдат и офицеров противника.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23 сентября 1943 года в районе села Иваненки, ныне село Гнаровское Вольнянского района Запорожской области Украины, отважная девушка со связкой гранат бросилась под танк и подорвала его. Похоронена в селе Гнаровско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ГнаровскаяВалерия Осиповна"/>
          <p:cNvPicPr/>
          <p:nvPr/>
        </p:nvPicPr>
        <p:blipFill>
          <a:blip r:embed="rId1"/>
          <a:stretch/>
        </p:blipFill>
        <p:spPr>
          <a:xfrm>
            <a:off x="250920" y="981000"/>
            <a:ext cx="2919240" cy="388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419280" y="260280"/>
            <a:ext cx="52671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зом Президиума Верховного Совета СССР от 3 июня 1944 года за образцовое выполнение боевых заданий командования и проявленные мужество и героизм в боях с немецко-фашистскими захватчиками красноармейцу Гнаровской Валерии Осиповне посмертно присвоено звание Героя Советского Союза.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граждена орденом Ленина, медалью.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городе Подпорожье Ленинградской области Герою Советского Союза Гнаровской В.О. установлен памятник, а на здании школы - мемориальная доска. Имя Героини носят улицы в городах Подпорожье, Тюмен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ёдоров Пётр Еремеевич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12. 1914 - 20. 4. 1993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рой Советского Сою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ФёдоровПётр Еремеевич"/>
          <p:cNvPicPr/>
          <p:nvPr/>
        </p:nvPicPr>
        <p:blipFill>
          <a:blip r:embed="rId1"/>
          <a:stretch/>
        </p:blipFill>
        <p:spPr>
          <a:xfrm>
            <a:off x="250920" y="1413000"/>
            <a:ext cx="2865240" cy="3789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940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ёдоров Пётр Еремеевич – командир 1-го танкового батальона 55-й гвардейской Васильковской ордена Ленина Краснознамённой орденов Суворова и Богдана Хмельницкого танковой бригады 7-го гвардейского танкового корпуса 3-й гвардейской танковой армии 1-го Украинского фронта, гвардии майор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ся 30 ноября (13 декабря) 1915 года в селе Колесниково ныне Заводоуковского района Тюменской области в крестьянской семье. Русский. Окончил 7 классов и школу автотракторных механиков в городе Магнитогорск Челябинской области. Работал механиком в совхоз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war"/>
          <p:cNvPicPr/>
          <p:nvPr/>
        </p:nvPicPr>
        <p:blipFill>
          <a:blip r:embed="rId1"/>
          <a:stretch/>
        </p:blipFill>
        <p:spPr>
          <a:xfrm>
            <a:off x="0" y="1413000"/>
            <a:ext cx="3492360" cy="3379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16480" y="761760"/>
            <a:ext cx="5627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расной Армии с 1936 года. Участвовал в боях с японскими милитаристами в районе озера Хасан в 1938 году. В 1941 году окончил курсы младших лейтенантов. На фронте в Великую Отечественную войну с 1941 года. Член ВКП(б)/КПСС с 1943 г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 января 1945 года вверенный гвардии майору Фёдорову батальон первым ворвался в польский город Велюнь, форсировал реку Просна, разведал подходы к реке Одер и обеспечил переправу других частей 55-й гвардейской танковой бригады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РОВ Павел Степа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Шаров П.С."/>
          <p:cNvPicPr/>
          <p:nvPr/>
        </p:nvPicPr>
        <p:blipFill>
          <a:blip r:embed="rId1"/>
          <a:stretch/>
        </p:blipFill>
        <p:spPr>
          <a:xfrm>
            <a:off x="0" y="1052640"/>
            <a:ext cx="2409840" cy="3336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84000" y="907560"/>
            <a:ext cx="64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дился 16.7.1922 в селе Созоново ныне Тюменского района Тюменской области в семье крестьянина. Русский. Член КПСС с 1944. Окончил 3 курса Тюменского сельско-хозяйственного техникума. В Советской Армии с 1940. В 1942 окончил Омскую авиационную школу пило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фронте с августа 194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ститель командира эскадрильи 723-го штурмового авиаполка (211-я шад, 3-я воздушная армия, 1-й Прибалтийский фронт), старший лейтенан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сентябрю1944 совершил 115 боевых вылетов на штурмовку военных объектов и войск против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ание Героя Советского Союза присвоено 23.02.4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2:06:57Z</dcterms:created>
  <dc:creator>Андрей</dc:creator>
  <dc:description/>
  <dc:language>en-US</dc:language>
  <cp:lastModifiedBy>Stars</cp:lastModifiedBy>
  <dcterms:modified xsi:type="dcterms:W3CDTF">2020-05-15T08:15:29Z</dcterms:modified>
  <cp:revision>13</cp:revision>
  <dc:subject/>
  <dc:title>Герои земли тюменской</dc:title>
</cp:coreProperties>
</file>