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4.png" ContentType="image/png"/>
  <Override PartName="/ppt/media/image46.png" ContentType="image/png"/>
  <Override PartName="/ppt/media/image48.gif" ContentType="image/gif"/>
  <Override PartName="/ppt/media/image37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1.png" ContentType="image/png"/>
  <Override PartName="/ppt/media/image9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868-1186-439C-B3B5-B7FF1738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10A-0585-48BB-B1E7-034E344A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D01-F5D1-4FAF-BE33-64079F8F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1AA-B579-443D-B9BF-91F2E220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2DE-753A-431E-80BE-C0E8696E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DC1F-D3A5-4201-B7D2-713B544A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10CE-ADD3-4480-BABD-A6D0B7B1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388F-80B5-4BFD-ACE7-382708E3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2944-0087-4008-9139-A5A3229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602E-BD2A-429D-80A6-C2B6AF90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7A87-E863-4818-BA6E-4A6F08E0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D9A-6B7F-4E76-8E9B-6A85888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DDB5-664B-4A6F-80D8-4FC4F003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7191-8B02-4AC9-BB00-CA0158D3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2919-D99A-4A13-A092-CDCA8E2A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F65F-C6C5-4F24-9465-8A546A94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5A4F-70A7-4FB6-88C4-19C2FFA7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F2E-9A1B-48A5-9FD6-CAC944D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F14-3DDA-48CD-8DDE-1AC5E274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1E4-F3D6-4F11-9726-F4AD30A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6CE-7F88-4CDC-90E6-D0F3BF6A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32D-0A94-46F9-B3A4-9102A7E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094-88DF-45EA-9797-A2245D7D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286-77F9-4418-84CF-AF097D68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5835FC-2332-4857-A398-F95CA1CE583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B27F35-02D8-428C-8EE5-00F7BF40B2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32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1405080" y="1305360"/>
            <a:ext cx="886608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chemeClr val="accent5"/>
                </a:solidFill>
                <a:latin typeface="Calibri"/>
              </a:rPr>
              <a:t>Дидактические игры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chemeClr val="accent5"/>
                </a:solidFill>
                <a:latin typeface="Calibri"/>
              </a:rPr>
              <a:t>по эколог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177520" y="5270040"/>
            <a:ext cx="5436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юбова Еле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88800" y="167040"/>
            <a:ext cx="1141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ая игра «Летает, плавает, прыг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ть знания детей о способах передвижения различны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detskiysad51.ru/wp-content/uploads/2013/04/0_53497_4eebecce_XL.png"/>
          <p:cNvPicPr/>
          <p:nvPr/>
        </p:nvPicPr>
        <p:blipFill>
          <a:blip r:embed="rId2"/>
          <a:stretch/>
        </p:blipFill>
        <p:spPr>
          <a:xfrm>
            <a:off x="462960" y="1067040"/>
            <a:ext cx="2099520" cy="315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www.kinder-training.li/wp-content/uploads/2016/06/Frosch-Fotolia_45359256_L.jpg"/>
          <p:cNvPicPr/>
          <p:nvPr/>
        </p:nvPicPr>
        <p:blipFill>
          <a:blip r:embed="rId3"/>
          <a:stretch/>
        </p:blipFill>
        <p:spPr>
          <a:xfrm>
            <a:off x="8797680" y="1121040"/>
            <a:ext cx="2709720" cy="2709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http://365psd.com/images/previews/fa7/goldfish-vector-4-14032.jpg"/>
          <p:cNvPicPr/>
          <p:nvPr/>
        </p:nvPicPr>
        <p:blipFill>
          <a:blip r:embed="rId4"/>
          <a:stretch/>
        </p:blipFill>
        <p:spPr>
          <a:xfrm>
            <a:off x="2637000" y="1406880"/>
            <a:ext cx="3000240" cy="240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http://hobbidoma.ru/wp-content/uploads/2012/01/4.png"/>
          <p:cNvPicPr/>
          <p:nvPr/>
        </p:nvPicPr>
        <p:blipFill>
          <a:blip r:embed="rId5"/>
          <a:stretch/>
        </p:blipFill>
        <p:spPr>
          <a:xfrm>
            <a:off x="5957280" y="1450440"/>
            <a:ext cx="2840400" cy="203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http://www.clipartster.com/images/265/webalbums-clipart-2-pinterest-clip-art-picasa-and-dolphins-yLQElZ-clipart.jpg"/>
          <p:cNvPicPr/>
          <p:nvPr/>
        </p:nvPicPr>
        <p:blipFill>
          <a:blip r:embed="rId6"/>
          <a:stretch/>
        </p:blipFill>
        <p:spPr>
          <a:xfrm>
            <a:off x="6550560" y="3366360"/>
            <a:ext cx="2406960" cy="307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7"/>
          <a:stretch/>
        </p:blipFill>
        <p:spPr>
          <a:xfrm>
            <a:off x="462960" y="4420080"/>
            <a:ext cx="2523600" cy="21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http://www.artwall.ru/files/products/sticker_p-58061.png"/>
          <p:cNvPicPr/>
          <p:nvPr/>
        </p:nvPicPr>
        <p:blipFill>
          <a:blip r:embed="rId8"/>
          <a:stretch/>
        </p:blipFill>
        <p:spPr>
          <a:xfrm>
            <a:off x="2805480" y="4009680"/>
            <a:ext cx="2918160" cy="206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litsait.ru/images/photos/medium/article109699.jpg"/>
          <p:cNvPicPr/>
          <p:nvPr/>
        </p:nvPicPr>
        <p:blipFill>
          <a:blip r:embed="rId9"/>
          <a:stretch/>
        </p:blipFill>
        <p:spPr>
          <a:xfrm>
            <a:off x="9287640" y="3952440"/>
            <a:ext cx="2255760" cy="16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2"/>
          <a:stretch/>
        </p:blipFill>
        <p:spPr>
          <a:xfrm>
            <a:off x="142920" y="1993320"/>
            <a:ext cx="1703520" cy="17809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"/>
          <p:cNvPicPr/>
          <p:nvPr/>
        </p:nvPicPr>
        <p:blipFill>
          <a:blip r:embed="rId3"/>
          <a:stretch/>
        </p:blipFill>
        <p:spPr>
          <a:xfrm>
            <a:off x="3551040" y="4263480"/>
            <a:ext cx="2097720" cy="22366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388800" y="167040"/>
            <a:ext cx="11414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ая игра «Хорошо - плох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ять знания детей о правилах поведения на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огласны- дети хлопают, если нет – топ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"/>
          <p:cNvPicPr/>
          <p:nvPr/>
        </p:nvPicPr>
        <p:blipFill>
          <a:blip r:embed="rId4"/>
          <a:stretch/>
        </p:blipFill>
        <p:spPr>
          <a:xfrm>
            <a:off x="142920" y="4277160"/>
            <a:ext cx="3349800" cy="2072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4599720" y="2057760"/>
            <a:ext cx="3318840" cy="1808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3" descr=""/>
          <p:cNvPicPr/>
          <p:nvPr/>
        </p:nvPicPr>
        <p:blipFill>
          <a:blip r:embed="rId6"/>
          <a:stretch/>
        </p:blipFill>
        <p:spPr>
          <a:xfrm>
            <a:off x="5706360" y="4277160"/>
            <a:ext cx="2852640" cy="21085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7"/>
          <a:stretch/>
        </p:blipFill>
        <p:spPr>
          <a:xfrm>
            <a:off x="9975600" y="861840"/>
            <a:ext cx="1805400" cy="30236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8"/>
          <a:stretch/>
        </p:blipFill>
        <p:spPr>
          <a:xfrm>
            <a:off x="8089200" y="2026080"/>
            <a:ext cx="1667880" cy="182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www.thepeaceseekers.org/uploads/2/6/7/8/26783064/can-stock-photo-csp9201820.jpg?282"/>
          <p:cNvPicPr/>
          <p:nvPr/>
        </p:nvPicPr>
        <p:blipFill>
          <a:blip r:embed="rId9"/>
          <a:stretch/>
        </p:blipFill>
        <p:spPr>
          <a:xfrm>
            <a:off x="1892520" y="2037960"/>
            <a:ext cx="2676240" cy="1847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"/>
          <p:cNvPicPr/>
          <p:nvPr/>
        </p:nvPicPr>
        <p:blipFill>
          <a:blip r:embed="rId10"/>
          <a:stretch/>
        </p:blipFill>
        <p:spPr>
          <a:xfrm>
            <a:off x="8616960" y="4263480"/>
            <a:ext cx="3013200" cy="20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94400" y="46080"/>
            <a:ext cx="11802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ая игра «Четвертый лишний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 развивать умение классифицировать предметы по существенному признаку, обобщ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5" descr=""/>
          <p:cNvPicPr/>
          <p:nvPr/>
        </p:nvPicPr>
        <p:blipFill>
          <a:blip r:embed="rId2"/>
          <a:stretch/>
        </p:blipFill>
        <p:spPr>
          <a:xfrm>
            <a:off x="1554480" y="1242000"/>
            <a:ext cx="8472960" cy="5518440"/>
          </a:xfrm>
          <a:prstGeom prst="rect">
            <a:avLst/>
          </a:prstGeom>
          <a:ln w="0">
            <a:noFill/>
          </a:ln>
        </p:spPr>
      </p:pic>
      <p:sp>
        <p:nvSpPr>
          <p:cNvPr id="113" name="Умножение 10"/>
          <p:cNvSpPr/>
          <p:nvPr/>
        </p:nvSpPr>
        <p:spPr>
          <a:xfrm>
            <a:off x="4008240" y="1276200"/>
            <a:ext cx="1554120" cy="162288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Умножение 11"/>
          <p:cNvSpPr/>
          <p:nvPr/>
        </p:nvSpPr>
        <p:spPr>
          <a:xfrm>
            <a:off x="8459280" y="2384640"/>
            <a:ext cx="1578960" cy="154584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Умножение 12"/>
          <p:cNvSpPr/>
          <p:nvPr/>
        </p:nvSpPr>
        <p:spPr>
          <a:xfrm>
            <a:off x="2476440" y="5324400"/>
            <a:ext cx="1298880" cy="166788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Умножение 13"/>
          <p:cNvSpPr/>
          <p:nvPr/>
        </p:nvSpPr>
        <p:spPr>
          <a:xfrm>
            <a:off x="5939640" y="3930840"/>
            <a:ext cx="1377000" cy="139320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388800" y="167040"/>
            <a:ext cx="1141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ая игра «Узнай по конту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 учить распознавать животных по контуру и правильно назы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5" descr=""/>
          <p:cNvPicPr/>
          <p:nvPr/>
        </p:nvPicPr>
        <p:blipFill>
          <a:blip r:embed="rId2"/>
          <a:stretch/>
        </p:blipFill>
        <p:spPr>
          <a:xfrm>
            <a:off x="579240" y="1144440"/>
            <a:ext cx="1890360" cy="2403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7" descr=""/>
          <p:cNvPicPr/>
          <p:nvPr/>
        </p:nvPicPr>
        <p:blipFill>
          <a:blip r:embed="rId3"/>
          <a:stretch/>
        </p:blipFill>
        <p:spPr>
          <a:xfrm>
            <a:off x="5065920" y="1163160"/>
            <a:ext cx="1967760" cy="2247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8" descr=""/>
          <p:cNvPicPr/>
          <p:nvPr/>
        </p:nvPicPr>
        <p:blipFill>
          <a:blip r:embed="rId4"/>
          <a:stretch/>
        </p:blipFill>
        <p:spPr>
          <a:xfrm>
            <a:off x="9453600" y="3870360"/>
            <a:ext cx="2343600" cy="20869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"/>
          <p:cNvPicPr/>
          <p:nvPr/>
        </p:nvPicPr>
        <p:blipFill>
          <a:blip r:embed="rId5"/>
          <a:stretch/>
        </p:blipFill>
        <p:spPr>
          <a:xfrm>
            <a:off x="4134240" y="4624920"/>
            <a:ext cx="2400120" cy="1476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0" descr=""/>
          <p:cNvPicPr/>
          <p:nvPr/>
        </p:nvPicPr>
        <p:blipFill>
          <a:blip r:embed="rId6"/>
          <a:stretch/>
        </p:blipFill>
        <p:spPr>
          <a:xfrm>
            <a:off x="2810520" y="1121040"/>
            <a:ext cx="1972080" cy="2270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"/>
          <p:cNvPicPr/>
          <p:nvPr/>
        </p:nvPicPr>
        <p:blipFill>
          <a:blip r:embed="rId7"/>
          <a:stretch/>
        </p:blipFill>
        <p:spPr>
          <a:xfrm>
            <a:off x="9891720" y="1163160"/>
            <a:ext cx="1812960" cy="2247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"/>
          <p:cNvPicPr/>
          <p:nvPr/>
        </p:nvPicPr>
        <p:blipFill>
          <a:blip r:embed="rId8"/>
          <a:stretch/>
        </p:blipFill>
        <p:spPr>
          <a:xfrm>
            <a:off x="7364880" y="1119960"/>
            <a:ext cx="2292480" cy="2321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3" descr=""/>
          <p:cNvPicPr/>
          <p:nvPr/>
        </p:nvPicPr>
        <p:blipFill>
          <a:blip r:embed="rId9"/>
          <a:stretch/>
        </p:blipFill>
        <p:spPr>
          <a:xfrm>
            <a:off x="379800" y="3945960"/>
            <a:ext cx="1887120" cy="2230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4" descr=""/>
          <p:cNvPicPr/>
          <p:nvPr/>
        </p:nvPicPr>
        <p:blipFill>
          <a:blip r:embed="rId10"/>
          <a:stretch/>
        </p:blipFill>
        <p:spPr>
          <a:xfrm>
            <a:off x="2455920" y="3908160"/>
            <a:ext cx="1509120" cy="23068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5" descr=""/>
          <p:cNvPicPr/>
          <p:nvPr/>
        </p:nvPicPr>
        <p:blipFill>
          <a:blip r:embed="rId11"/>
          <a:stretch/>
        </p:blipFill>
        <p:spPr>
          <a:xfrm>
            <a:off x="6597720" y="3946320"/>
            <a:ext cx="2845080" cy="21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-1116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7"/>
          <p:cNvSpPr/>
          <p:nvPr/>
        </p:nvSpPr>
        <p:spPr>
          <a:xfrm>
            <a:off x="194400" y="46080"/>
            <a:ext cx="11802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ая игра «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Собери в корзину фрукт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Цель: развивать умение различать фрукты от овощей, правильно назы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"/>
          <p:cNvPicPr/>
          <p:nvPr/>
        </p:nvPicPr>
        <p:blipFill>
          <a:blip r:embed="rId2"/>
          <a:stretch/>
        </p:blipFill>
        <p:spPr>
          <a:xfrm>
            <a:off x="551520" y="1967400"/>
            <a:ext cx="1588680" cy="2055600"/>
          </a:xfrm>
          <a:prstGeom prst="rect">
            <a:avLst/>
          </a:prstGeom>
          <a:ln w="9525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3"/>
          <a:stretch/>
        </p:blipFill>
        <p:spPr>
          <a:xfrm>
            <a:off x="2724480" y="1030680"/>
            <a:ext cx="1652400" cy="1652400"/>
          </a:xfrm>
          <a:prstGeom prst="rect">
            <a:avLst/>
          </a:prstGeom>
          <a:ln w="9525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4"/>
          <a:stretch/>
        </p:blipFill>
        <p:spPr>
          <a:xfrm>
            <a:off x="7143840" y="1132560"/>
            <a:ext cx="1753920" cy="1669680"/>
          </a:xfrm>
          <a:prstGeom prst="rect">
            <a:avLst/>
          </a:prstGeom>
          <a:ln w="9525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5"/>
          <a:stretch/>
        </p:blipFill>
        <p:spPr>
          <a:xfrm>
            <a:off x="556560" y="4470120"/>
            <a:ext cx="2592000" cy="1855440"/>
          </a:xfrm>
          <a:prstGeom prst="rect">
            <a:avLst/>
          </a:prstGeom>
          <a:ln w="9525">
            <a:noFill/>
          </a:ln>
        </p:spPr>
      </p:pic>
      <p:pic>
        <p:nvPicPr>
          <p:cNvPr id="139" name="Рисунок 12" descr=""/>
          <p:cNvPicPr/>
          <p:nvPr/>
        </p:nvPicPr>
        <p:blipFill>
          <a:blip r:embed="rId6"/>
          <a:stretch/>
        </p:blipFill>
        <p:spPr>
          <a:xfrm>
            <a:off x="4091400" y="2422440"/>
            <a:ext cx="2414160" cy="1372680"/>
          </a:xfrm>
          <a:prstGeom prst="rect">
            <a:avLst/>
          </a:prstGeom>
          <a:ln w="9525">
            <a:noFill/>
          </a:ln>
        </p:spPr>
      </p:pic>
      <p:pic>
        <p:nvPicPr>
          <p:cNvPr id="140" name="Рисунок 13" descr=""/>
          <p:cNvPicPr/>
          <p:nvPr/>
        </p:nvPicPr>
        <p:blipFill>
          <a:blip r:embed="rId7"/>
          <a:stretch/>
        </p:blipFill>
        <p:spPr>
          <a:xfrm>
            <a:off x="4918320" y="4844160"/>
            <a:ext cx="2469960" cy="1558440"/>
          </a:xfrm>
          <a:prstGeom prst="rect">
            <a:avLst/>
          </a:prstGeom>
          <a:ln w="9525">
            <a:noFill/>
          </a:ln>
        </p:spPr>
      </p:pic>
      <p:pic>
        <p:nvPicPr>
          <p:cNvPr id="141" name="Рисунок 15" descr=""/>
          <p:cNvPicPr/>
          <p:nvPr/>
        </p:nvPicPr>
        <p:blipFill>
          <a:blip r:embed="rId8"/>
          <a:stretch/>
        </p:blipFill>
        <p:spPr>
          <a:xfrm>
            <a:off x="8897760" y="3277440"/>
            <a:ext cx="3090600" cy="3239640"/>
          </a:xfrm>
          <a:prstGeom prst="rect">
            <a:avLst/>
          </a:prstGeom>
          <a:ln w="9525">
            <a:noFill/>
          </a:ln>
        </p:spPr>
      </p:pic>
      <p:pic>
        <p:nvPicPr>
          <p:cNvPr id="142" name="Рисунок 14" descr=""/>
          <p:cNvPicPr/>
          <p:nvPr/>
        </p:nvPicPr>
        <p:blipFill>
          <a:blip r:embed="rId9"/>
          <a:stretch/>
        </p:blipFill>
        <p:spPr>
          <a:xfrm>
            <a:off x="3084840" y="3440160"/>
            <a:ext cx="1479240" cy="1612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39 -0.18958 L 0.44922 -0.18958 C 0.52825 -0.18958 0.62643 -0.1206 0.62643 -0.06458 L 0.62643 0.06042 E">
                                      <p:cBhvr>
                                        <p:cTn id="2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44 -0.14144 L 0.00638 -0.14144 C 0.08542 -0.14144 0.1836 -0.07246 0.1836 -0.01644 L 0.1836 0.10856 E">
                                      <p:cBhvr>
                                        <p:cTn id="2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3 -0.07245 L 0.23815 -0.07245 C 0.34466 -0.07245 0.47709 -0.00347 0.47709 0.05255 L 0.47709 0.17755 E">
                                      <p:cBhvr>
                                        <p:cTn id="2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328320" y="33480"/>
            <a:ext cx="11018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ая игра «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Microsoft YaHei"/>
              </a:rPr>
              <a:t>Что растет на грядк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Цель: закрепить знания об овощах, растущих на грядке               и правильно назы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5" descr=""/>
          <p:cNvPicPr/>
          <p:nvPr/>
        </p:nvPicPr>
        <p:blipFill>
          <a:blip r:embed="rId2"/>
          <a:stretch/>
        </p:blipFill>
        <p:spPr>
          <a:xfrm>
            <a:off x="328320" y="1918800"/>
            <a:ext cx="1407600" cy="1534680"/>
          </a:xfrm>
          <a:prstGeom prst="rect">
            <a:avLst/>
          </a:prstGeom>
          <a:ln w="9525">
            <a:noFill/>
          </a:ln>
        </p:spPr>
      </p:pic>
      <p:pic>
        <p:nvPicPr>
          <p:cNvPr id="148" name="Рисунок 6" descr=""/>
          <p:cNvPicPr/>
          <p:nvPr/>
        </p:nvPicPr>
        <p:blipFill>
          <a:blip r:embed="rId3"/>
          <a:stretch/>
        </p:blipFill>
        <p:spPr>
          <a:xfrm>
            <a:off x="1762200" y="1990440"/>
            <a:ext cx="1179000" cy="1160280"/>
          </a:xfrm>
          <a:prstGeom prst="rect">
            <a:avLst/>
          </a:prstGeom>
          <a:ln w="9525">
            <a:noFill/>
          </a:ln>
        </p:spPr>
      </p:pic>
      <p:pic>
        <p:nvPicPr>
          <p:cNvPr id="149" name="Рисунок 7" descr=""/>
          <p:cNvPicPr/>
          <p:nvPr/>
        </p:nvPicPr>
        <p:blipFill>
          <a:blip r:embed="rId4"/>
          <a:stretch/>
        </p:blipFill>
        <p:spPr>
          <a:xfrm>
            <a:off x="5172120" y="5272200"/>
            <a:ext cx="1649160" cy="1039320"/>
          </a:xfrm>
          <a:prstGeom prst="rect">
            <a:avLst/>
          </a:prstGeom>
          <a:ln w="9525">
            <a:noFill/>
          </a:ln>
        </p:spPr>
      </p:pic>
      <p:pic>
        <p:nvPicPr>
          <p:cNvPr id="150" name="Рисунок 8" descr=""/>
          <p:cNvPicPr/>
          <p:nvPr/>
        </p:nvPicPr>
        <p:blipFill>
          <a:blip r:embed="rId5"/>
          <a:stretch/>
        </p:blipFill>
        <p:spPr>
          <a:xfrm>
            <a:off x="4404600" y="3477240"/>
            <a:ext cx="1161720" cy="1626840"/>
          </a:xfrm>
          <a:prstGeom prst="rect">
            <a:avLst/>
          </a:prstGeom>
          <a:ln w="9525">
            <a:noFill/>
          </a:ln>
        </p:spPr>
      </p:pic>
      <p:pic>
        <p:nvPicPr>
          <p:cNvPr id="151" name="Рисунок 9" descr=""/>
          <p:cNvPicPr/>
          <p:nvPr/>
        </p:nvPicPr>
        <p:blipFill>
          <a:blip r:embed="rId6"/>
          <a:stretch/>
        </p:blipFill>
        <p:spPr>
          <a:xfrm>
            <a:off x="2108520" y="3590640"/>
            <a:ext cx="1587240" cy="1518840"/>
          </a:xfrm>
          <a:prstGeom prst="rect">
            <a:avLst/>
          </a:prstGeom>
          <a:ln w="9525">
            <a:noFill/>
          </a:ln>
        </p:spPr>
      </p:pic>
      <p:pic>
        <p:nvPicPr>
          <p:cNvPr id="152" name="Рисунок 10" descr=""/>
          <p:cNvPicPr/>
          <p:nvPr/>
        </p:nvPicPr>
        <p:blipFill>
          <a:blip r:embed="rId7"/>
          <a:stretch/>
        </p:blipFill>
        <p:spPr>
          <a:xfrm>
            <a:off x="455400" y="4558680"/>
            <a:ext cx="1153800" cy="1155240"/>
          </a:xfrm>
          <a:prstGeom prst="rect">
            <a:avLst/>
          </a:prstGeom>
          <a:ln w="9525">
            <a:noFill/>
          </a:ln>
        </p:spPr>
      </p:pic>
      <p:pic>
        <p:nvPicPr>
          <p:cNvPr id="153" name="Рисунок 11" descr=""/>
          <p:cNvPicPr/>
          <p:nvPr/>
        </p:nvPicPr>
        <p:blipFill>
          <a:blip r:embed="rId8"/>
          <a:stretch/>
        </p:blipFill>
        <p:spPr>
          <a:xfrm>
            <a:off x="252000" y="3216240"/>
            <a:ext cx="1923840" cy="1628280"/>
          </a:xfrm>
          <a:prstGeom prst="rect">
            <a:avLst/>
          </a:prstGeom>
          <a:ln w="9525">
            <a:noFill/>
          </a:ln>
        </p:spPr>
      </p:pic>
      <p:pic>
        <p:nvPicPr>
          <p:cNvPr id="154" name="Рисунок 12" descr=""/>
          <p:cNvPicPr/>
          <p:nvPr/>
        </p:nvPicPr>
        <p:blipFill>
          <a:blip r:embed="rId9"/>
          <a:stretch/>
        </p:blipFill>
        <p:spPr>
          <a:xfrm>
            <a:off x="1308240" y="5045760"/>
            <a:ext cx="2452320" cy="1633320"/>
          </a:xfrm>
          <a:prstGeom prst="rect">
            <a:avLst/>
          </a:prstGeom>
          <a:ln w="9525">
            <a:noFill/>
          </a:ln>
        </p:spPr>
      </p:pic>
      <p:pic>
        <p:nvPicPr>
          <p:cNvPr id="155" name="Рисунок 13" descr=""/>
          <p:cNvPicPr/>
          <p:nvPr/>
        </p:nvPicPr>
        <p:blipFill>
          <a:blip r:embed="rId10"/>
          <a:stretch/>
        </p:blipFill>
        <p:spPr>
          <a:xfrm>
            <a:off x="3764160" y="4845240"/>
            <a:ext cx="988560" cy="1557000"/>
          </a:xfrm>
          <a:prstGeom prst="rect">
            <a:avLst/>
          </a:prstGeom>
          <a:ln w="9525">
            <a:noFill/>
          </a:ln>
        </p:spPr>
      </p:pic>
      <p:pic>
        <p:nvPicPr>
          <p:cNvPr id="156" name="Рисунок 14" descr=""/>
          <p:cNvPicPr/>
          <p:nvPr/>
        </p:nvPicPr>
        <p:blipFill>
          <a:blip r:embed="rId11"/>
          <a:stretch/>
        </p:blipFill>
        <p:spPr>
          <a:xfrm>
            <a:off x="3293640" y="2280240"/>
            <a:ext cx="1459080" cy="1389240"/>
          </a:xfrm>
          <a:prstGeom prst="rect">
            <a:avLst/>
          </a:prstGeom>
          <a:ln w="9525">
            <a:noFill/>
          </a:ln>
        </p:spPr>
      </p:pic>
      <p:pic>
        <p:nvPicPr>
          <p:cNvPr id="157" name="Рисунок 15" descr=""/>
          <p:cNvPicPr/>
          <p:nvPr/>
        </p:nvPicPr>
        <p:blipFill>
          <a:blip r:embed="rId12"/>
          <a:stretch/>
        </p:blipFill>
        <p:spPr>
          <a:xfrm>
            <a:off x="7450200" y="496080"/>
            <a:ext cx="5069880" cy="37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1.48148E-006 L 0.17057 1.48148E-006 C 0.24713 1.48148E-006 0.34154 -0.04699 0.34154 -0.08519 L 0.34154 -0.17014 E">
                                      <p:cBhvr>
                                        <p:cTn id="24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-1.48148E-006 L 0.24258 -1.48148E-006 C 0.35117 -1.48148E-006 0.48542 -0.06898 0.48542 -0.125 L 0.48542 -0.25 E">
                                      <p:cBhvr>
                                        <p:cTn id="2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40741E-007 L 0.16419 7.40741E-007 C 0.23776 7.40741E-007 0.32878 -0.05208 0.32878 -0.09421 L 0.32878 -0.1882 E">
                                      <p:cBhvr>
                                        <p:cTn id="2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-2.96296E-006 L 0.11511 -2.96296E-006 C 0.16667 -2.96296E-006 0.23034 -0.05301 0.23034 -0.09583 L 0.23034 -0.19166 E">
                                      <p:cBhvr>
                                        <p:cTn id="2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8333E-006 -4.07407E-006 L 0.28437 -4.07407E-006 C 0.41171 -4.07407E-006 0.56914 -0.04375 0.56914 -0.07893 L 0.56914 -0.15763 E">
                                      <p:cBhvr>
                                        <p:cTn id="25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2.59259E-006 L 0.17956 2.59259E-006 C 0.26002 2.59259E-006 0.3595 -0.04306 0.3595 -0.07801 L 0.3595 -0.15579 E">
                                      <p:cBhvr>
                                        <p:cTn id="2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4.44444E-006 L 0.15455 -4.44444E-006 C 0.22383 -4.44444E-006 0.30937 -0.03379 0.30937 -0.06134 L 0.30937 -0.12245 E">
                                      <p:cBhvr>
                                        <p:cTn id="2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musafirova.ucoz.ru/Metod_kopilka/Pomosh/Dlja_prezent/Priroda/mir_prirody-1.pn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3797640" y="1144440"/>
            <a:ext cx="6115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chemeClr val="accent5"/>
                </a:solidFill>
                <a:latin typeface="Calibri"/>
              </a:rPr>
              <a:t>Молодцы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gif-kartinki.ru/den-rozhdenija/prazdnik_11.gif"/>
          <p:cNvPicPr/>
          <p:nvPr/>
        </p:nvPicPr>
        <p:blipFill>
          <a:blip r:embed="rId2"/>
          <a:stretch/>
        </p:blipFill>
        <p:spPr>
          <a:xfrm>
            <a:off x="3366720" y="2725920"/>
            <a:ext cx="5771880" cy="28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  <Words>100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8T07:21:35Z</dcterms:created>
  <dc:creator>HOME</dc:creator>
  <dc:description/>
  <dc:language>en-US</dc:language>
  <cp:lastModifiedBy>Admin</cp:lastModifiedBy>
  <dcterms:modified xsi:type="dcterms:W3CDTF">2020-05-14T04:02:59Z</dcterms:modified>
  <cp:revision>2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8</vt:r8>
  </property>
</Properties>
</file>